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12AF-8F08-43E0-8DA5-E8571E4F2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EFA0-E356-4F03-B041-D1893649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600A-40BA-476B-91D2-7E9CCA0D9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76B1-07E2-4DC8-BC83-5E5F9CDFF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7486-6A1D-4609-8312-9A24F81B5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2A8C-098A-4136-AE1A-580AD8379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ED50-B18C-4553-AC3A-2D883A5B0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5E76-86E6-4A9E-BBE3-E0F2391FA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065D-9502-4770-BDB9-7E032FB9A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90DE-FD0B-4FD5-8597-57014B44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2174-82D3-477D-A7EF-43C3E6C5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CDCC-7CA0-479B-9A25-96293D1D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AC932-FB00-4781-A8C7-FF38CC59D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esson 1.1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ing Estimation Strateg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0240" y="1712880"/>
            <a:ext cx="37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1: Estimating by rou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915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19600" y="493560"/>
            <a:ext cx="667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2: Using front-end estimation and compatible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8305920" cy="10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7631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8991720" cy="34257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62120" y="1981080"/>
            <a:ext cx="4952880" cy="1905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ur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315200" cy="2602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038480" y="3962520"/>
            <a:ext cx="403884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0T23:21:45Z</dcterms:created>
  <dc:creator>Graham</dc:creator>
  <dc:description/>
  <dc:language>en-US</dc:language>
  <cp:lastModifiedBy>Graham</cp:lastModifiedBy>
  <dcterms:modified xsi:type="dcterms:W3CDTF">2011-08-30T23:36:48Z</dcterms:modified>
  <cp:revision>3</cp:revision>
  <dc:subject/>
  <dc:title>Using Estimation Strategies</dc:title>
</cp:coreProperties>
</file>